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zu viel frei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Wass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(zu wenig Natriu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natr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7480" y="5493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natr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Natriu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00800" y="549360"/>
            <a:ext cx="46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wenig Natriu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6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3"/>
            <a:endCxn id="166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7" name=""/>
          <p:cNvCxnSpPr>
            <a:stCxn id="164" idx="3"/>
            <a:endCxn id="16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hird-space-lo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3"/>
            <a:endCxn id="169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32120" y="549360"/>
            <a:ext cx="55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solut (zu wenig Natrium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2800" y="549360"/>
            <a:ext cx="71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bsolut (zu wenig Natrium) &gt; Verlust &gt; 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3"/>
            <a:endCxn id="1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rbrech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urch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4840" y="549360"/>
            <a:ext cx="77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bsolut (zu wenig Natrium) &gt; Verlust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8" idx="3"/>
            <a:endCxn id="18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Diuretik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-space-lo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4840" y="549360"/>
            <a:ext cx="80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bsolut (zu wenig Natrium) &gt; Verlust &gt; third-space-los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3" idx="3"/>
            <a:endCxn id="18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szite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horaxergus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frei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8" name=""/>
          <p:cNvCxnSpPr>
            <a:stCxn id="105" idx="3"/>
            <a:endCxn id="1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0" name=""/>
          <p:cNvCxnSpPr>
            <a:stCxn id="105" idx="3"/>
            <a:endCxn id="111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Wass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ückresorptio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dere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wirksame Teilch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9720" y="54936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relativ (zu viel freies Wass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ere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rksame Teilch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3"/>
            <a:endCxn id="116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7" name=""/>
          <p:cNvCxnSpPr>
            <a:stCxn id="114" idx="3"/>
            <a:endCxn id="118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9" name=""/>
          <p:cNvCxnSpPr>
            <a:stCxn id="114" idx="3"/>
            <a:endCxn id="120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76760" y="549360"/>
            <a:ext cx="69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dere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wirksame Teilch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nito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6760" y="549360"/>
            <a:ext cx="69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dere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irksame Teilche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Gluko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3"/>
            <a:endCxn id="12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iabetes mellit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6760" y="549360"/>
            <a:ext cx="69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ndere osmotisc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wirksame Teilche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arnstof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zotäm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Wass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ückresorp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01960" y="549360"/>
            <a:ext cx="75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Wasserrückresorp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DH-Freisetz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360" y="639684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H-Freisetz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ak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Stimul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Barorezeptoren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adäqua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reisetz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9" idx="3"/>
            <a:endCxn id="14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3" name=""/>
          <p:cNvCxnSpPr>
            <a:stCxn id="139" idx="3"/>
            <a:endCxn id="14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1101240" y="549360"/>
            <a:ext cx="77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Wasserrückresorptio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DH-Freisetz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360" y="639684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ak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Stimula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rorezeptore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01240" y="549360"/>
            <a:ext cx="77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Wasserrückresorptio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DH-Freisetz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reaktiv (Stimulation der Barorezeptoren)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3"/>
            <a:endCxn id="15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berfunktionsstörung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phrotisches 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erz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2360" y="639684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adäqua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isetz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1240" y="549360"/>
            <a:ext cx="77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viel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Wasserrückresorptio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DH-Freisetzung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inadäquate Freisetz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3"/>
            <a:endCxn id="15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antidiuret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edikament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ADH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bei Encephalitis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800" y="5666760"/>
            <a:ext cx="428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ADH = antidiuretisches Horm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SIADH = Syndrom der inadäquaten Sekreti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es antidiuretischen Hormon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 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55:28Z</dcterms:modified>
  <cp:revision>329</cp:revision>
  <dc:subject/>
  <dc:title>Vorstellung einer Neuheit</dc:title>
</cp:coreProperties>
</file>